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65DC-8114-426A-8075-B0B9C8D3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AA5-59FE-4D3E-B3D3-F41F22B8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F93-1D33-478F-9026-1A8BE3AB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9D56-A58E-42D7-8487-D5EE7EC7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4421-C8B6-4688-BC01-666D8F9A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5BB0-BBE0-4EFA-822F-2FCF952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205-82DE-4BC1-B4E4-BF73D62E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1BB-1959-44FC-8E60-873E2D2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559-B3F5-440B-8E4B-794BCBF6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5AB-8940-4D65-B9E4-F582E9D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1FF-C07A-44F8-BD97-6570166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FF3-DC59-49C1-9C38-EF86C5DB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F3D1-5929-4C4C-A7AC-8DE1542AD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our parents came to our Maths afternoon at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940360" y="4508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3132000" y="2276640"/>
            <a:ext cx="2914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9:59:35Z</dcterms:created>
  <dc:creator>01690112</dc:creator>
  <dc:description/>
  <dc:language>en-US</dc:language>
  <cp:lastModifiedBy>01690112</cp:lastModifiedBy>
  <dcterms:modified xsi:type="dcterms:W3CDTF">2009-07-21T10:02:52Z</dcterms:modified>
  <cp:revision>2</cp:revision>
  <dc:subject/>
  <dc:title>Some of our parents came to our Maths afternoon at school.</dc:title>
</cp:coreProperties>
</file>